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91A4-B908-4A99-AD32-0347623B5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B8C7-EE9B-4108-B7CF-F88B61BA2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EFFB13-503E-42DB-8A86-41E0B23D3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778ED1-A1CB-4DEC-9E4A-D64BECDFE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705301-7DEF-4911-98DA-191BDDE29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C0AB03-D10E-4E06-B3AA-3BC6DA94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BA3C00-1380-41F7-83E8-A4685176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3933BC-C7D2-40A1-B9F4-157ED378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D0DAB0-04CA-4195-8F61-61B8F5B95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A221E3-3A43-43C1-8838-E4274EBDA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379B59-78E4-47B5-A95E-F01BE7071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710816-B222-4702-BD3E-051E8DF31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17B6-72A5-4173-9978-9C9BE1CF5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43EFAD-696E-47DC-85C4-360CA7643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E5DC75-A2F0-479A-A32D-0C725D2D8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BC8D75-6DC5-4E09-8E45-7F4FF5CDF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06A888-C875-4F37-8721-31E522226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120855-6FA5-4DF7-8610-7B2CB524C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36C6E1-F340-4EB7-8F6D-6F52BCD8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8A3015-4908-4AEC-BB57-48A29B05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8B5C3B-6EEB-42A4-BA5B-D52C3E3D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254C65-7A2F-4964-80C2-6D26FD0FB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4C0FC8-E2A9-4C87-8703-C83DA7A17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65EC-B949-4FC3-B85E-C4566F5DA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931C31-D149-40B9-8028-218CE0D3C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D60E81-5FC6-4415-961E-9EFE9FF30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9F048D-D860-4382-9368-2E8BF5F28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55CF6C-5D46-4ED4-890C-97F4DC289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B1D31C-2329-49B8-BE3D-EB7553AC5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21E9BF-CBF3-459F-9ED5-12FD5AD9E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8C841F-817F-45AE-BEA3-EBCDC45EE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ACE8C9-525E-488C-81B9-AB7C6721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09E318-BFE7-463B-AFF2-63F93389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6FD401-EBF1-48EB-894B-24FE1CA9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49A8A-4848-4016-BAA1-652AF28DF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D18E80-5FD4-4DC0-979E-6A58AE0D9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D80CA6-B916-4280-B341-DA462BC2F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A84578-69AE-4ECB-91AB-94BFA77DC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58F285-D599-472E-AD36-E79937D45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7AB874-CC60-47EB-9A52-DF4A9C0A5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B22576-1D9A-45A3-AA37-DD896509F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5EAC55-B784-4839-8971-729D3FC13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62E414-412F-471E-82C7-866649BB8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AC2DBF-8DD9-40CF-8629-4DE63B6C8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033AB1-E560-4583-AE48-CB867842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95CDE-AEE5-438C-9FC6-1DAB33DEF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5FE079-E5FB-4677-B758-F97414B0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51CEFB-C128-427C-8D52-248446DD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7B52AF-2B3A-4FC3-8238-800B28FF7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ACFAC3-DA46-4C63-B47F-BA588BED1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4C59C4-8F01-4318-99EC-80368EDA4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324F61-4D94-474E-B10F-D33A2B814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4EC1C5-CD2B-4D8D-813F-38958F5A1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A1D99B-1396-47F2-B176-29C8F7408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C82546-42DC-4B43-B150-6B747D0E9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12BFD7-8069-4497-8DDF-73469DBC0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49210-BD4D-4A61-BCB0-CCD6AAC39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DD4DF5-2FE4-4857-B767-A880BE3BA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2C45F2-DF74-4B4D-9BF8-36809462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1AB54F-A962-46CF-AC6A-641258A3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9D72A9-BDB5-46B9-8D4C-E3163C93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83EB37-5021-4475-98E8-362EDD65C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737B81-B85F-4D75-8B2A-20323B921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35FE9E-21F4-4EDB-A17C-AD3A8B814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6EB3CA-8158-4926-9A8C-B208A7BC3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53AD5D-EB93-4842-A9A6-569549F75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B1AAA7-BA1D-4DD7-BEFC-0FB69F019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A0ED9-06E8-4E70-87AE-20F287EC7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20AE5B-6662-4F0A-ABD3-306DD1A46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528A17-5060-441D-B05E-00ED1ADD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AE7178-72E2-4260-860B-50899537A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EAC781-3B71-4908-90D2-BA037ED2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325EF4-8953-47EE-909F-3F08F705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4B040A-3F0F-49E1-B685-90D3A1B9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EAD43B-1080-442C-BCA5-D3A4F7ED6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3626A3-CAE8-4EE2-9613-DAAE430DF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359EC7-590A-4E97-B0F9-A70A9C40B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378881-F861-4280-8834-1AA267124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E3CA5-DB9A-444C-8BCD-6F8C689BD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3C9BF0-6E10-4BB2-85F5-995429D9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B028F4-C78D-4659-AF82-5FBB88A52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578F67-E1B9-40C4-955E-39A86FD31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D61E9D-7AED-4C78-9223-014BACF91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65A865-3622-4200-B446-696B35440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F3BFF5-810B-480F-B1AD-E5888F0E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C4D29A-D98B-4C7E-8CAF-1EE2F68D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E5240A-2E71-42CF-8C8C-7C79DFDF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F4C37B-9FB8-40F5-AFD3-1F6B5FCF9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2D8D2C-1B41-4C3B-8193-B870F412C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7DB1F-EBEF-4644-9D37-AA4BD5565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27C948-F36E-4F9C-9007-2EC8AEE64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6DBAF7-14A5-45A6-BB4B-68AE8082E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DC5C60-AB3C-4A41-B75B-40A25E5F4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5FFE69-3501-4047-9F9E-502D204E4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222E47-774B-4442-8DB4-5F504793C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DCF04C-C9F7-4E59-86A8-8FA3B7EBD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67C73E-3931-4761-95C9-650FC8E1F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39513C-E228-4851-839F-51A0ECF1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A8243F-3C34-4DE1-9039-0356216A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2DE466-E285-4DC6-A259-DEAF0F66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2F5C6-1A71-4042-A96F-9EC4D099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DB192D-8290-464D-BD84-50FC1A4E2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2BE087-E60F-4E71-A8FB-B141EEB8A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A91305-7CA2-4A79-9171-77DC12A47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F235B2-9562-47E4-B213-D9FF57621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B9291D-BBFD-423D-9DB7-3CFB9A519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C695DA-90C3-4F22-903B-102AF7E65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C6AE5E-42B6-440A-99F0-E1B97F30B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34F27B-01EE-494E-8DD0-5EDD7A2B5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1510FD-0D86-4898-B593-C0A69A26E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F6BE49-1E41-4396-B4A2-12492819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B2FD-1E6A-4C0F-B429-83E71A206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194ED-A9FB-45D8-8C1E-2B8818B6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C535A0-E4EE-477E-B0EC-2369F29A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4C9A18-6542-4926-819D-1157DF01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ACB8F6-6161-4765-92CF-CC61788FB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D65117-6E50-438D-80C8-37F928E5E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D13E78-DBF0-4963-962E-464285B12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EC162B-FCC9-410F-9BFF-510BDF4E4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1A9906-0217-4F8A-B54B-4F58B67E3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42ECD5-1E4B-46E5-A009-50CC61B8A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E0C6C4-32F5-4819-B990-17D755176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FAD386-AB38-490F-AF63-EF529D5D8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A749A-8960-47F6-9CE5-DC950BA6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2FFDC5-CDD6-418B-A3E3-E4D250B81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65E070-ED32-4D6B-99DC-2D222AD5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0350C6-7C29-4AE2-AB3B-11D3115B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3564B8-ADDF-4CD0-A202-8DB89C56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072CD1-5DEE-47F1-9955-EF7492BF5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3191D9-C63E-4216-B24B-9CEAA0588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677348-4DAC-46F9-A35B-7A08868C0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C29191-B8FC-4BC4-9617-4D93179E1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5EB9B9-EDCB-4B10-BF99-F7125187A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4F06A1-FDFE-4DF5-B6F9-04B8AA26B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C9A81-591C-4AD1-A655-D7AE82D03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C492E3-3553-4537-B52F-F1CC8F60E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058F8E-6A69-4287-8EB8-D44CE2CA7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016B40-4D54-4ACD-8FF4-7A8A35E77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BCC934-7B0A-4CF1-88F9-76892248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9F4EAE-A1A2-4720-82E9-109D1CDA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D44ED3-E0EF-43D2-8730-AEF2D563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AF4FE1-ADFD-40AC-B4BB-5B168C0C0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671D0D-117C-4E00-9F28-31C415E40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A94A5B-C001-40CC-9898-45E450BA3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93D148-A24F-4679-880B-F68A9F851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4D2CB-5D13-4E44-A8D9-84FA622D0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E39F89-BAE1-4027-A798-50776B030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387B06-B501-4B03-A7E5-B3F867891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2FE2CE-8AA4-4A28-9D14-74E9E6825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18AB91-DAD2-4834-8B31-2206BAA5A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F13338-A82D-490D-BC13-684247240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6CABB9-162B-4709-BF47-ED9F954E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B01842-D0F9-49B0-87F1-809DED28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388BFC-C655-4B0D-A395-37D9B74C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55A240-F759-4888-BDCE-81051991B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0BDF21-1CAD-4BA8-8163-942790028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144A3-0A72-4262-B30D-FB505C7DE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DCA59F-B8B3-4876-B969-112B90DFA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E05BE0-0F1B-4AF7-8400-854E03508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5C5C77-FAE8-40DE-A2CE-E102A2313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86D092-CC57-4276-BAA8-5256FD105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6B1BA7-32BC-4560-A391-395BCACB3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E29231-E68A-469D-B2AC-6F75D04B1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C34A5D-4C75-4DE4-ABFD-08203854E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DB67D6-9E15-46A3-9DF0-FCF12B36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DDF6F7-EFD9-4B3B-AB7A-803CEFBA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EB1394-9054-4A20-B596-F85235E3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4F89F-EDEA-46CB-817D-FACB15218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630DCF-9B53-42FF-AFD6-7DF753E36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BAB2C3-D1C0-42A5-B552-661D74FC1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227C5E-D5EE-45E7-A2B7-5A20F5748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0FD53-2F08-4F26-A59C-53CADA8A0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51A91-F6ED-4298-AC3C-C03DBC8FF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7467D-E618-4A65-8041-9FD3644A4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7290A-0D9A-4E8B-A52D-1020758AF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3C0D-9EC9-40B5-87E7-30212C56D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D8EAB-A1A8-4317-93D9-63A4AE3F5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FBBB2-EC7D-43AD-9E46-61CB9FDA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E96AA-08CC-46B5-BFC6-F9306241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84840-50E1-4EBA-9D16-7B2C8DF7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6F572-37AB-42AF-BF46-BC2222B9F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0FC51-AF62-412B-BD2F-7CE105667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A9553-1A58-4188-8762-35A1FDD4E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75BE5-7736-49AF-8DF8-F23A92F37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14EF2-FA72-458A-951B-8C6F2840F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6CD6F-832F-4E04-BD93-93BF2723A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B0C3-49D3-44ED-8CAB-E12CE7FAE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EF03B-3396-4067-8A68-DD21F32D1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11AFB-E087-46C0-80C6-52EDFB127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0BE04-5FB7-49C2-9772-A64F5C22B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4620A-08F2-4008-A5DE-B92BCA4E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8F89B-D7C3-45C8-9EE8-29D4F352B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0C50E-805E-4A47-A0E7-55109864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6A49F-44F1-4142-AE99-EC77AEEC6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DA40B-88BA-41BA-9C13-ABF480DF9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8181D-2B57-4B98-A385-7002CF5EE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6B875-E4AC-48B3-B20B-BD03B0775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CF47-39D4-4AF1-9ABC-E1D26E4ED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7F2B4-28B6-4689-89B7-25D0986CC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8923A-951E-4900-A5E3-273D9ADA9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EC6C4-F167-45B4-B2F8-878DC6323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DD653-2FA3-4013-AB2D-1E1B8D2CE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8C84D-405E-4172-87AD-3FD29A211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3B436D-88A0-4C20-995F-D4CA9A40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5F335-E57E-4D7D-95D5-08C397E7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BE26E-16F7-4D38-AA89-7D43A8CA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4B685-6042-4B0E-98B7-7D86B687B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737DD-605D-4D6B-BD24-1FAD49414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A2F2-C718-4B44-A6CC-771C7086B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3DC4E-BC9D-4954-B954-576F4AD07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CC951-B5A0-414A-B2C0-3B2150DB1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E6CB75-2402-49FC-ABB9-467B40CF1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B1F52-925A-4DD5-BF46-AAB9B9558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645BC-B46B-414C-87C9-8110F9893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A3240-2EB9-41CE-A73E-112B8A2AE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01043E-9EDC-4449-AB38-33A84D57E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D2E40-AD93-4F7C-96FB-C7925683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611A2E-F8F2-4BB7-9A04-E65841AF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965BB9-AA2E-497F-B03A-BC2BB0A5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4721-5F2E-4448-8EEC-92929FB4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D4571-1F86-4851-B46B-A9F843F1F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188E4-AB81-43C5-9E0C-F9EE3A86C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63EB36-7EBC-4B30-B5E1-D0BBA01CD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EEAB4F-7E9B-4EE9-AB63-7279FD020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C1650-D184-4E08-8A13-507AA5557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D3B0AB-48F8-4A7A-90C1-68CD9373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F5EBB3-26EF-4BD9-AC1C-CE7F2B18C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CFE3D8-1E90-40F9-B40D-DB5D8AEFE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121D1-13C2-4B44-9597-88D44A2AF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E1E317-9B18-4F34-8C1C-71D4D510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3D4D-81C6-45A6-9FFF-B27A3BB2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C525F6-4ABA-484C-8226-CB49978D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0D2DB8-F018-4FA9-9994-6657F11E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5BB4B-3229-464C-BB56-3A8E0BFA2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59103B-7CCB-4195-98F6-540A9DC18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D83BA2-86CB-42D7-B437-BCC91B0DD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2D7EE2-706D-4DB4-89E0-35A757CE4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75494C-8847-4273-A028-DC020EC40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E035A8-B4BB-4710-8245-EC39AAF72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9DBCCE-6244-4694-AFA3-DF73322CB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69667B-564E-4394-BA24-23A16ED1D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D046-94AF-4FC9-85CF-B3FD228D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31DED4-8091-4D74-A164-1EC0D5E71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DDA0B3-5005-4137-BEA3-FC230917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08B7A4-21BD-4513-810A-0AF1B3C8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ACE0DF-A8DA-41EE-BCB3-57A27DC3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8A8A73-299B-4C31-9DAA-BF4F15484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79B6F-54F8-4B1D-B198-5EB8FE5DE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85F103-452D-465A-AAC0-1BC980409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494DB3-C3A2-4592-8D31-296F5F477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85E5F7-AC48-4458-8F30-00A6EDC39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DEF040-F38F-43B2-B1DF-3BBD6ED68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35F5A-DE96-4862-9791-38F65B0068D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32490-0901-4054-8DAD-AA20F8E3E31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25D3D-6674-4EB8-8C4B-8D3944FD3E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98A24-407F-48FA-BFAF-7428A75B6D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7D90D-81AA-4E0F-AC43-57F6510B0B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FC8E4-1F3A-4285-9D3B-14ABD65D7E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A7A91-4442-46E4-8284-9A0542E90C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12799-7023-461B-B2B2-7594881471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7F801-F229-4CBD-ADF8-55BA28382A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EF5B0-5CCE-4381-868C-DC4809EF19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5E580-1E88-4ED8-8189-EECDEADAA6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B1792-0272-4EFF-A4FA-48BD5B8B20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7AD9D-7562-4E4D-9E15-73305FF133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39EA0-57E9-4E64-85C5-E91CEB67CF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EF0D6-EEC3-424B-8F5F-8072735A65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5B443-EEE5-474F-9D22-52284DEC35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7C816-76ED-442A-9C6C-060690B000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4FD56-9266-4E70-BEDD-B6E2EEA258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031B5-862A-44DC-843D-3C5839841F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5BAC7-0C77-4736-9A84-A2212B99A7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140BE-4115-4E76-B8B6-5F5B030F41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A4B07-9792-4338-AA7E-68EFDCB632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9BFE9-999F-4613-A20D-F1723EECA9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BCDD9-8C37-4911-AE24-C428DF56EF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9BA14-ACC6-4162-A1C9-190EF2A191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D0171-4F85-4C64-8F2D-231DC9B532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E2BB2-E266-453F-8D63-DF204C661C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C35D5-A9DF-4B47-9DC9-032BCB65061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91D41-8A0E-4414-BFEE-5396D5B3CA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B0A5E-0172-45DA-A436-AA03A66C39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BF817-DB1C-4FA9-BF9C-A77C153B2B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0DAED-7CA7-4232-8E8A-F6FAA6C0E4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37063-5A7B-45DA-AB97-3976525822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7FA2B-79D9-4CAB-8AD2-D6BB665070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57238-A239-4329-8944-7CBD327F06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3DFA5-B9D9-4253-9A12-6C4EB79720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2345C-DFD9-4813-9559-847588360B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794D9-90A8-411D-A6D4-F023139CCF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8BDBC-9BEB-495F-8186-1FBD4252EB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B16AA-A964-4B6D-8168-631F0AC642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488880" y="1860480"/>
            <a:ext cx="7970760" cy="92088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179280" y="3693960"/>
            <a:ext cx="8856720" cy="6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0" name="图片 69633" descr=""/>
          <p:cNvPicPr/>
          <p:nvPr/>
        </p:nvPicPr>
        <p:blipFill>
          <a:blip r:embed="rId1"/>
          <a:stretch/>
        </p:blipFill>
        <p:spPr>
          <a:xfrm>
            <a:off x="1090440" y="1125360"/>
            <a:ext cx="6963120" cy="2133720"/>
          </a:xfrm>
          <a:prstGeom prst="rect">
            <a:avLst/>
          </a:prstGeom>
          <a:ln w="0">
            <a:noFill/>
          </a:ln>
        </p:spPr>
      </p:pic>
      <p:pic>
        <p:nvPicPr>
          <p:cNvPr id="981" name="图片 69634" descr=""/>
          <p:cNvPicPr/>
          <p:nvPr/>
        </p:nvPicPr>
        <p:blipFill>
          <a:blip r:embed="rId2"/>
          <a:stretch/>
        </p:blipFill>
        <p:spPr>
          <a:xfrm>
            <a:off x="719280" y="3552840"/>
            <a:ext cx="7705440" cy="218124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" descr=""/>
          <p:cNvPicPr/>
          <p:nvPr/>
        </p:nvPicPr>
        <p:blipFill>
          <a:blip r:embed="rId3"/>
          <a:stretch/>
        </p:blipFill>
        <p:spPr>
          <a:xfrm>
            <a:off x="4427640" y="1657440"/>
            <a:ext cx="936360" cy="43344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" descr=""/>
          <p:cNvPicPr/>
          <p:nvPr/>
        </p:nvPicPr>
        <p:blipFill>
          <a:blip r:embed="rId4"/>
          <a:stretch/>
        </p:blipFill>
        <p:spPr>
          <a:xfrm>
            <a:off x="4284720" y="2335320"/>
            <a:ext cx="936720" cy="43344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" descr=""/>
          <p:cNvPicPr/>
          <p:nvPr/>
        </p:nvPicPr>
        <p:blipFill>
          <a:blip r:embed="rId5"/>
          <a:stretch/>
        </p:blipFill>
        <p:spPr>
          <a:xfrm>
            <a:off x="7236000" y="1628640"/>
            <a:ext cx="936360" cy="43344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1" descr=""/>
          <p:cNvPicPr/>
          <p:nvPr/>
        </p:nvPicPr>
        <p:blipFill>
          <a:blip r:embed="rId6"/>
          <a:stretch/>
        </p:blipFill>
        <p:spPr>
          <a:xfrm>
            <a:off x="7236000" y="2349360"/>
            <a:ext cx="936360" cy="43344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1" descr=""/>
          <p:cNvPicPr/>
          <p:nvPr/>
        </p:nvPicPr>
        <p:blipFill>
          <a:blip r:embed="rId7"/>
          <a:stretch/>
        </p:blipFill>
        <p:spPr>
          <a:xfrm>
            <a:off x="2050920" y="4076640"/>
            <a:ext cx="936720" cy="43344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1" descr=""/>
          <p:cNvPicPr/>
          <p:nvPr/>
        </p:nvPicPr>
        <p:blipFill>
          <a:blip r:embed="rId8"/>
          <a:stretch/>
        </p:blipFill>
        <p:spPr>
          <a:xfrm>
            <a:off x="1979640" y="4797360"/>
            <a:ext cx="936720" cy="43344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1" descr=""/>
          <p:cNvPicPr/>
          <p:nvPr/>
        </p:nvPicPr>
        <p:blipFill>
          <a:blip r:embed="rId9"/>
          <a:stretch/>
        </p:blipFill>
        <p:spPr>
          <a:xfrm>
            <a:off x="4932360" y="4076640"/>
            <a:ext cx="936720" cy="43344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1" descr=""/>
          <p:cNvPicPr/>
          <p:nvPr/>
        </p:nvPicPr>
        <p:blipFill>
          <a:blip r:embed="rId10"/>
          <a:stretch/>
        </p:blipFill>
        <p:spPr>
          <a:xfrm>
            <a:off x="5003640" y="4797360"/>
            <a:ext cx="936720" cy="43344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1" descr=""/>
          <p:cNvPicPr/>
          <p:nvPr/>
        </p:nvPicPr>
        <p:blipFill>
          <a:blip r:embed="rId11"/>
          <a:stretch/>
        </p:blipFill>
        <p:spPr>
          <a:xfrm>
            <a:off x="7956720" y="4076640"/>
            <a:ext cx="936360" cy="43344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1" descr=""/>
          <p:cNvPicPr/>
          <p:nvPr/>
        </p:nvPicPr>
        <p:blipFill>
          <a:blip r:embed="rId12"/>
          <a:stretch/>
        </p:blipFill>
        <p:spPr>
          <a:xfrm>
            <a:off x="7942320" y="4797360"/>
            <a:ext cx="93672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7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2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7" dur="1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2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7" dur="10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2" dur="1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7" dur="1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2" dur="1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7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2" dur="1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60428" descr=""/>
          <p:cNvPicPr/>
          <p:nvPr/>
        </p:nvPicPr>
        <p:blipFill>
          <a:blip r:embed="rId1"/>
          <a:stretch/>
        </p:blipFill>
        <p:spPr>
          <a:xfrm>
            <a:off x="366840" y="825480"/>
            <a:ext cx="8410320" cy="57722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2"/>
          <a:stretch/>
        </p:blipFill>
        <p:spPr>
          <a:xfrm>
            <a:off x="2843280" y="2781360"/>
            <a:ext cx="936720" cy="4334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3059280" y="3471840"/>
            <a:ext cx="720720" cy="4334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4"/>
          <a:stretch/>
        </p:blipFill>
        <p:spPr>
          <a:xfrm>
            <a:off x="6877080" y="2781360"/>
            <a:ext cx="936720" cy="4334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5"/>
          <a:stretch/>
        </p:blipFill>
        <p:spPr>
          <a:xfrm>
            <a:off x="7308720" y="3471840"/>
            <a:ext cx="576360" cy="4334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6"/>
          <a:stretch/>
        </p:blipFill>
        <p:spPr>
          <a:xfrm>
            <a:off x="2843280" y="5013360"/>
            <a:ext cx="936720" cy="4334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7"/>
          <a:stretch/>
        </p:blipFill>
        <p:spPr>
          <a:xfrm>
            <a:off x="3274920" y="5703840"/>
            <a:ext cx="576360" cy="4334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8"/>
          <a:stretch/>
        </p:blipFill>
        <p:spPr>
          <a:xfrm>
            <a:off x="6877080" y="5013360"/>
            <a:ext cx="936720" cy="4334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9"/>
          <a:stretch/>
        </p:blipFill>
        <p:spPr>
          <a:xfrm>
            <a:off x="7308720" y="5703840"/>
            <a:ext cx="57636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图片 59410" descr=""/>
          <p:cNvPicPr/>
          <p:nvPr/>
        </p:nvPicPr>
        <p:blipFill>
          <a:blip r:embed="rId1"/>
          <a:stretch/>
        </p:blipFill>
        <p:spPr>
          <a:xfrm>
            <a:off x="290520" y="1085760"/>
            <a:ext cx="8562960" cy="468648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2"/>
          <a:stretch/>
        </p:blipFill>
        <p:spPr>
          <a:xfrm>
            <a:off x="3492360" y="1989000"/>
            <a:ext cx="936720" cy="4334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3"/>
          <a:stretch/>
        </p:blipFill>
        <p:spPr>
          <a:xfrm>
            <a:off x="3635280" y="3198960"/>
            <a:ext cx="432000" cy="43308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4"/>
          <a:stretch/>
        </p:blipFill>
        <p:spPr>
          <a:xfrm>
            <a:off x="4427640" y="3573360"/>
            <a:ext cx="431640" cy="4334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5"/>
          <a:stretch/>
        </p:blipFill>
        <p:spPr>
          <a:xfrm>
            <a:off x="5651640" y="4667400"/>
            <a:ext cx="431640" cy="43308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6"/>
          <a:stretch/>
        </p:blipFill>
        <p:spPr>
          <a:xfrm>
            <a:off x="6084720" y="5127480"/>
            <a:ext cx="43200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图片 58373" descr=""/>
          <p:cNvPicPr/>
          <p:nvPr/>
        </p:nvPicPr>
        <p:blipFill>
          <a:blip r:embed="rId1"/>
          <a:stretch/>
        </p:blipFill>
        <p:spPr>
          <a:xfrm>
            <a:off x="961920" y="947880"/>
            <a:ext cx="7220160" cy="49622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2"/>
          <a:stretch/>
        </p:blipFill>
        <p:spPr>
          <a:xfrm>
            <a:off x="3780000" y="907920"/>
            <a:ext cx="936360" cy="43344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3"/>
          <a:stretch/>
        </p:blipFill>
        <p:spPr>
          <a:xfrm>
            <a:off x="5580000" y="1887480"/>
            <a:ext cx="647640" cy="4334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4"/>
          <a:stretch/>
        </p:blipFill>
        <p:spPr>
          <a:xfrm>
            <a:off x="4788000" y="2362320"/>
            <a:ext cx="2376360" cy="4334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5"/>
          <a:stretch/>
        </p:blipFill>
        <p:spPr>
          <a:xfrm>
            <a:off x="3780000" y="3687840"/>
            <a:ext cx="936360" cy="43344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6"/>
          <a:stretch/>
        </p:blipFill>
        <p:spPr>
          <a:xfrm>
            <a:off x="4427640" y="4495680"/>
            <a:ext cx="936360" cy="4334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7"/>
          <a:stretch/>
        </p:blipFill>
        <p:spPr>
          <a:xfrm>
            <a:off x="3448080" y="4970520"/>
            <a:ext cx="187308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图片 57352" descr=""/>
          <p:cNvPicPr/>
          <p:nvPr/>
        </p:nvPicPr>
        <p:blipFill>
          <a:blip r:embed="rId1"/>
          <a:stretch/>
        </p:blipFill>
        <p:spPr>
          <a:xfrm>
            <a:off x="785880" y="1581120"/>
            <a:ext cx="7572240" cy="369576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2"/>
          <a:stretch/>
        </p:blipFill>
        <p:spPr>
          <a:xfrm>
            <a:off x="3276720" y="1685880"/>
            <a:ext cx="647640" cy="43344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3"/>
          <a:stretch/>
        </p:blipFill>
        <p:spPr>
          <a:xfrm>
            <a:off x="7380360" y="1700280"/>
            <a:ext cx="647640" cy="4334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4"/>
          <a:stretch/>
        </p:blipFill>
        <p:spPr>
          <a:xfrm>
            <a:off x="3492360" y="2550960"/>
            <a:ext cx="648000" cy="43344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5"/>
          <a:stretch/>
        </p:blipFill>
        <p:spPr>
          <a:xfrm>
            <a:off x="7380360" y="2550960"/>
            <a:ext cx="647640" cy="43344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6"/>
          <a:stretch/>
        </p:blipFill>
        <p:spPr>
          <a:xfrm>
            <a:off x="3492360" y="3284640"/>
            <a:ext cx="648000" cy="4334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7"/>
          <a:stretch/>
        </p:blipFill>
        <p:spPr>
          <a:xfrm>
            <a:off x="7380360" y="3284640"/>
            <a:ext cx="647640" cy="4334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8"/>
          <a:stretch/>
        </p:blipFill>
        <p:spPr>
          <a:xfrm>
            <a:off x="3492360" y="4005360"/>
            <a:ext cx="648000" cy="43344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9"/>
          <a:stretch/>
        </p:blipFill>
        <p:spPr>
          <a:xfrm>
            <a:off x="7380360" y="4005360"/>
            <a:ext cx="647640" cy="43344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10"/>
          <a:stretch/>
        </p:blipFill>
        <p:spPr>
          <a:xfrm>
            <a:off x="3492360" y="4724280"/>
            <a:ext cx="648000" cy="43344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11"/>
          <a:stretch/>
        </p:blipFill>
        <p:spPr>
          <a:xfrm>
            <a:off x="7380360" y="4724280"/>
            <a:ext cx="64764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图片 56324" descr=""/>
          <p:cNvPicPr/>
          <p:nvPr/>
        </p:nvPicPr>
        <p:blipFill>
          <a:blip r:embed="rId1"/>
          <a:stretch/>
        </p:blipFill>
        <p:spPr>
          <a:xfrm>
            <a:off x="285840" y="1209600"/>
            <a:ext cx="8572320" cy="443880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2"/>
          <a:stretch/>
        </p:blipFill>
        <p:spPr>
          <a:xfrm>
            <a:off x="3419640" y="1542960"/>
            <a:ext cx="504720" cy="43344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3"/>
          <a:stretch/>
        </p:blipFill>
        <p:spPr>
          <a:xfrm>
            <a:off x="3419640" y="2292480"/>
            <a:ext cx="504720" cy="43308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4"/>
          <a:stretch/>
        </p:blipFill>
        <p:spPr>
          <a:xfrm>
            <a:off x="7553160" y="1541520"/>
            <a:ext cx="505080" cy="43344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5"/>
          <a:stretch/>
        </p:blipFill>
        <p:spPr>
          <a:xfrm>
            <a:off x="7553160" y="2290680"/>
            <a:ext cx="505080" cy="43344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6"/>
          <a:stretch/>
        </p:blipFill>
        <p:spPr>
          <a:xfrm>
            <a:off x="3405240" y="3500280"/>
            <a:ext cx="504720" cy="43344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7"/>
          <a:stretch/>
        </p:blipFill>
        <p:spPr>
          <a:xfrm>
            <a:off x="3405240" y="4249800"/>
            <a:ext cx="504720" cy="43344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8"/>
          <a:stretch/>
        </p:blipFill>
        <p:spPr>
          <a:xfrm>
            <a:off x="3419640" y="4998960"/>
            <a:ext cx="360360" cy="43344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9"/>
          <a:stretch/>
        </p:blipFill>
        <p:spPr>
          <a:xfrm>
            <a:off x="7524720" y="3500280"/>
            <a:ext cx="504720" cy="43344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10"/>
          <a:stretch/>
        </p:blipFill>
        <p:spPr>
          <a:xfrm>
            <a:off x="7524720" y="4249800"/>
            <a:ext cx="504720" cy="43344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11"/>
          <a:stretch/>
        </p:blipFill>
        <p:spPr>
          <a:xfrm>
            <a:off x="7539120" y="4998960"/>
            <a:ext cx="36036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7" name="图片 55300" descr=""/>
          <p:cNvPicPr/>
          <p:nvPr/>
        </p:nvPicPr>
        <p:blipFill>
          <a:blip r:embed="rId1"/>
          <a:stretch/>
        </p:blipFill>
        <p:spPr>
          <a:xfrm>
            <a:off x="399960" y="1943280"/>
            <a:ext cx="8344080" cy="297180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2"/>
          <a:stretch/>
        </p:blipFill>
        <p:spPr>
          <a:xfrm>
            <a:off x="3836880" y="2349360"/>
            <a:ext cx="505080" cy="43344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3"/>
          <a:stretch/>
        </p:blipFill>
        <p:spPr>
          <a:xfrm>
            <a:off x="3822840" y="3241800"/>
            <a:ext cx="504720" cy="43344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4"/>
          <a:stretch/>
        </p:blipFill>
        <p:spPr>
          <a:xfrm>
            <a:off x="3822840" y="4076640"/>
            <a:ext cx="504720" cy="43344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5"/>
          <a:stretch/>
        </p:blipFill>
        <p:spPr>
          <a:xfrm>
            <a:off x="7812000" y="2276640"/>
            <a:ext cx="505080" cy="43308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6"/>
          <a:stretch/>
        </p:blipFill>
        <p:spPr>
          <a:xfrm>
            <a:off x="7797960" y="3168720"/>
            <a:ext cx="504720" cy="43344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7"/>
          <a:stretch/>
        </p:blipFill>
        <p:spPr>
          <a:xfrm>
            <a:off x="7797960" y="4003560"/>
            <a:ext cx="50472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6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1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6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1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6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4" name="图片 54276" descr=""/>
          <p:cNvPicPr/>
          <p:nvPr/>
        </p:nvPicPr>
        <p:blipFill>
          <a:blip r:embed="rId1"/>
          <a:stretch/>
        </p:blipFill>
        <p:spPr>
          <a:xfrm>
            <a:off x="681120" y="905040"/>
            <a:ext cx="7781760" cy="561960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2"/>
          <a:stretch/>
        </p:blipFill>
        <p:spPr>
          <a:xfrm>
            <a:off x="1332000" y="5300640"/>
            <a:ext cx="4464000" cy="43344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3"/>
          <a:stretch/>
        </p:blipFill>
        <p:spPr>
          <a:xfrm>
            <a:off x="1332000" y="6078600"/>
            <a:ext cx="446400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3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8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图片 52231" descr=""/>
          <p:cNvPicPr/>
          <p:nvPr/>
        </p:nvPicPr>
        <p:blipFill>
          <a:blip r:embed="rId1"/>
          <a:stretch/>
        </p:blipFill>
        <p:spPr>
          <a:xfrm>
            <a:off x="504720" y="1123920"/>
            <a:ext cx="8134560" cy="475308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2"/>
          <a:stretch/>
        </p:blipFill>
        <p:spPr>
          <a:xfrm>
            <a:off x="1187280" y="4610160"/>
            <a:ext cx="5185080" cy="43344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3"/>
          <a:stretch/>
        </p:blipFill>
        <p:spPr>
          <a:xfrm>
            <a:off x="1187280" y="5373720"/>
            <a:ext cx="640908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5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0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8:47:01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